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5AD-DA2A-4373-AD01-1F135931B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F3A4-10C2-40F4-B5F1-B96241728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A203-7D8B-4EFF-93DD-7B474C4D2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763C-8A06-404A-B3C8-7111CD1B2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E41D-C973-4F77-BA51-043D30FFF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5AF8-3406-4684-B75D-9E762AFEF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F767-6562-40C8-8B4A-7FD4061E91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3CF94F-4D66-4AD7-9E5B-A26FDC6B563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481F02-2A99-47D1-8372-AB9D96F6DAC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4D5478-B129-40AA-B811-C779619CA6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03B58B-6F94-4204-AE97-FBFB50C81B5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44F796-2772-44B2-B9F7-DAE856302BE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10B830-4F73-4E17-8FA1-EA3EAD0544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20F852-D594-4462-A986-44770E25BD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8687C-E5C4-46BF-9FD5-9AA3833986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807D9E-F665-41FB-BED9-9D50BF603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36E7-7839-40C5-873D-4A3BF2E9E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ED24-65A0-4285-953F-C55E052C8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FCBC5-DEEC-4C58-9442-9C16E223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0AB5C-B1A1-4199-BDEE-231AA75B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2AC48-1FFA-42C2-8AA2-C42DF7B0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3D46C-4804-447E-988C-EDFE956D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2168C-CEF1-4B6B-B6F4-1A62706A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66BD2-4F42-48F1-8293-B9EE6DBF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AB565-CE45-4FDF-B25F-D7583A70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2752-5BC0-4078-8868-5766A9B8F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DEBD0-0D2B-4FA2-AA8F-B170B0F5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008B6-11C2-4E71-B4AF-38E71C8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CB8F8-F255-462B-A6F3-BCDBAB2C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25F06-3031-4DFC-8095-75D03C2C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5465A-56E9-49B0-8A80-2C30252C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08AD0-03F2-4E0A-9000-14C2074C2F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20F36-3F4C-41EA-889D-46544A02CC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96A7E-A286-41CA-9C4B-2BBBD7FA09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02B4E2-64DC-4E86-93E1-02E2F5785D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00890-B110-4EFD-80B1-B714D8E8A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C356-407A-47CF-8FAD-DE81957EB7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66CE4-7CA6-496D-B169-D34C4E4F89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35B5B-F0D2-4D5F-B7C2-BC1CC824F8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2494E-D59B-4D90-8573-3144726CCC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12591-E268-4338-B225-0392A339CC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35480-9848-4F22-96FD-0F9C305915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A83DF-5658-4131-BC3A-B2459DFFA1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C3CF5-726A-4C8E-A27A-35989590CD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EBCA-99C7-4D24-BDC4-5AB61AFA04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8BCB-8854-44F5-A9F6-BF793FF63F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9136-5C94-4DA6-9196-91B431A65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4727-37C8-40C8-9566-D3FC71AD05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C6FF-B993-422A-A500-3C81F16502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7A16-B433-446C-A8AB-E72F29C614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AA19-ADDE-4CB1-AFC1-94470B7F2A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6026-F1C5-494D-85F0-DE1C17A46E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825D-AB0D-4E24-A81A-35FA03080A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3FB3-C9FC-4953-AF81-6818CF354F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84CD-5BDD-4A41-9662-B89D7C4E1F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F45A-C62E-4E1D-BFB0-01E0F81F23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DF13-05D3-4EDB-BA84-07B7A4D730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61E5D-130D-43D2-8251-9FEEA2F8A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EC7A-2EC6-4BD2-B021-B6972E1997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03B96-1E9E-4947-8E96-BFE8231C7FD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3A9E9-806D-4BBD-8F0E-0ABACEA048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5E826-0C99-472B-9A88-038B255DA5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DA05D-33C5-439E-9D2D-5DF72B53D1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5998C-CBFF-474F-8A76-5DA31C6F5F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3869E-0740-49C5-A1EB-E7C0564E0E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EBE6E-F9AC-4C89-8F41-642DD9D4F7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2E87A-5F01-47DA-8710-4A7E2F9F7D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F939F-5B8B-45D5-9D38-2F081916DF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67798-DFB3-4B40-8E99-D013235B6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BDB0-702A-4B35-B677-DB706D91B5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D802C-2446-4499-A9F7-9BF45DFEF69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1AC3A6-2008-415C-9978-AB2E1C67E2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155497-B03F-457A-9A70-56307194AD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5BB75-314D-40FD-B131-C4ADE0506E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92E6D-292B-458D-9F48-C08941265E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BA9B7-4E41-4B77-9103-3AA88578EA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FE120-330B-4BDB-A198-C7C512CA5F7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D511C6-DB09-4069-9DAA-F18D6575AD2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3BE98-E496-439A-B9B8-895914867F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D64061-4740-4737-B9B9-244778589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A3CA-60B6-4020-BF95-6195B60F40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1CD6C-DFB3-4E65-A4AC-2A11489A0C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5F403F-085D-4FD7-B330-E0335DB5CB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B0020-3E25-4841-8057-8F63D1F3E0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F6B9-A70D-4661-B15A-D12C830F26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64366-65C7-4EDC-87E3-156DC5593C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2A77-9E1A-48F7-BD95-B53A8B62A6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BFB0-E1D7-4F66-A623-AB1F4B59E2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9A980-40DA-4092-A93C-AE9B3421F7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92BBE-3953-46DA-B434-AA8D788AB37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514C-FA65-4E5D-8F61-106395C09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3645-2DFF-4317-9C68-23071E38C5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E8F4-B77C-494A-821C-B6C6356DC0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AF57-4C85-40D9-9949-AD5721B652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3AC37-5102-4314-BB3F-386276EE1D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463F6-6B0D-4752-8B45-5D716F5859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F45E6-92F3-42BD-96AF-32FC6D9933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BACBD-C41F-43DA-8093-B9CFC228A3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7F810-88E7-4396-81B5-41917F57E3D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A54C5-5621-447C-AF39-AFDBE81EBC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7AE25-7622-4209-922D-458629B2C45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153BD-3128-4367-92A2-0A5F03025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B48C-D019-409B-9A97-CF9D82C4F4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FB02A-5329-4F97-9377-C67F95C62A8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DC718-EEA4-4C63-AE5B-A17BFF167C2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5714E-D3F8-4870-8B59-CA9CA2A4F0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4EF75-B41B-459D-AADD-CEF1F20DAF7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F194D-1B00-4339-9400-246CE55A5B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1E778-EBFD-4868-A9F3-6EE3E3C4E3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EC626-5DEB-4909-A189-BFA21A9FB4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66E5E-455B-4E26-80A8-7F801AE104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260874-A1D8-41FA-91EE-FE4F7EF774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039A50-95C6-4BEF-B885-1C9C33705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41A8-5BBA-4091-9FD1-55EDE886F0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LPS_OneSwashC.png"/>
          <p:cNvPicPr/>
          <p:nvPr/>
        </p:nvPicPr>
        <p:blipFill>
          <a:blip r:embed="rId2"/>
          <a:srcRect l="1666" t="0" r="0" b="0"/>
          <a:stretch/>
        </p:blipFill>
        <p:spPr>
          <a:xfrm>
            <a:off x="0" y="1219320"/>
            <a:ext cx="8991720" cy="3619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1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LPS_outlined_Color.png"/>
          <p:cNvPicPr/>
          <p:nvPr/>
        </p:nvPicPr>
        <p:blipFill>
          <a:blip r:embed="rId3"/>
          <a:stretch/>
        </p:blipFill>
        <p:spPr>
          <a:xfrm>
            <a:off x="7467480" y="304920"/>
            <a:ext cx="1414440" cy="799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B844-68B5-4AD2-B9CA-0E49004F32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5"/>
          </p:nvPr>
        </p:nvSpPr>
        <p:spPr>
          <a:xfrm>
            <a:off x="228600" y="649296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8652-29C9-4451-A28F-A4CCED776E3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PPTTemp_btm-2.png"/>
          <p:cNvPicPr/>
          <p:nvPr/>
        </p:nvPicPr>
        <p:blipFill>
          <a:blip r:embed="rId2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228600" y="1371600"/>
            <a:ext cx="8686800" cy="1440"/>
          </a:xfrm>
          <a:prstGeom prst="line">
            <a:avLst/>
          </a:prstGeom>
          <a:ln w="19080">
            <a:solidFill>
              <a:srgbClr val="003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6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7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4F7E-D685-4C13-9199-DF9266AFB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PPTTemp_btm-2.png"/>
          <p:cNvPicPr/>
          <p:nvPr/>
        </p:nvPicPr>
        <p:blipFill>
          <a:blip r:embed="rId2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127" name="Straight Connector 7"/>
          <p:cNvSpPr/>
          <p:nvPr/>
        </p:nvSpPr>
        <p:spPr>
          <a:xfrm>
            <a:off x="228600" y="1371600"/>
            <a:ext cx="8686800" cy="1440"/>
          </a:xfrm>
          <a:prstGeom prst="line">
            <a:avLst/>
          </a:prstGeom>
          <a:ln w="19080">
            <a:solidFill>
              <a:srgbClr val="003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A440-24B6-49DF-A4D5-B577F3B763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PTTemp_btm-2.png"/>
          <p:cNvPicPr/>
          <p:nvPr/>
        </p:nvPicPr>
        <p:blipFill>
          <a:blip r:embed="rId2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0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1AED-E1E3-4C27-A95E-9162919121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PPTTemp_btm-2.png"/>
          <p:cNvPicPr/>
          <p:nvPr/>
        </p:nvPicPr>
        <p:blipFill>
          <a:blip r:embed="rId2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3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5E57-2F4E-4507-AAFB-87EEF4EEF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PPTTemp_btm-2.png"/>
          <p:cNvPicPr/>
          <p:nvPr/>
        </p:nvPicPr>
        <p:blipFill>
          <a:blip r:embed="rId2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664C-989D-464A-B43F-AEAD9A958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PPTTemp_btm-2.png"/>
          <p:cNvPicPr/>
          <p:nvPr/>
        </p:nvPicPr>
        <p:blipFill>
          <a:blip r:embed="rId2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"/>
          <p:cNvSpPr/>
          <p:nvPr/>
        </p:nvSpPr>
        <p:spPr>
          <a:xfrm>
            <a:off x="228600" y="1371600"/>
            <a:ext cx="8686800" cy="1440"/>
          </a:xfrm>
          <a:prstGeom prst="line">
            <a:avLst/>
          </a:prstGeom>
          <a:ln w="19080">
            <a:solidFill>
              <a:srgbClr val="003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6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7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CABD-1DBD-42EF-B576-D4722C70AE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6" descr="PPTTemp_btm-2.png"/>
          <p:cNvPicPr/>
          <p:nvPr/>
        </p:nvPicPr>
        <p:blipFill>
          <a:blip r:embed="rId2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9"/>
          </p:nvPr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D875-9E95-4100-AF93-B28CE57088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nterchange.lendingsvcs.com/" TargetMode="External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nterchange.lendingsvcs.com/" TargetMode="Externa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520" y="228564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urostile"/>
              </a:rPr>
              <a:t>LPS InterChange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904760" y="3809520"/>
            <a:ext cx="6476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IC Web CICS De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FA85-8D55-4B29-BC98-8A57B840DF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2133720" y="3352680"/>
            <a:ext cx="5181480" cy="129564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enter your current Password, then enter and confirm the new Password, and cli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utton to sub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1143000" y="1828800"/>
            <a:ext cx="2438280" cy="609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5"/>
          <p:cNvSpPr/>
          <p:nvPr/>
        </p:nvSpPr>
        <p:spPr>
          <a:xfrm>
            <a:off x="1219320" y="2743200"/>
            <a:ext cx="312480" cy="379440"/>
          </a:xfrm>
          <a:prstGeom prst="upArrow">
            <a:avLst>
              <a:gd name="adj1" fmla="val 50000"/>
              <a:gd name="adj2" fmla="val 3035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2362320" y="1295280"/>
            <a:ext cx="9144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FC8B-1341-4F4B-ACCB-6E3C40564B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1836360" y="3962520"/>
            <a:ext cx="6837480" cy="167616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With the Password of your choosing, you can proce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o access the host by selecting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ss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n the left hand side of your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762120" y="3352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FIS Logo without Verbiage"/>
          <p:cNvPicPr/>
          <p:nvPr/>
        </p:nvPicPr>
        <p:blipFill>
          <a:blip r:embed="rId2"/>
          <a:stretch/>
        </p:blipFill>
        <p:spPr>
          <a:xfrm>
            <a:off x="8381880" y="6172200"/>
            <a:ext cx="533520" cy="2048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6"/>
          <p:cNvSpPr/>
          <p:nvPr/>
        </p:nvSpPr>
        <p:spPr>
          <a:xfrm>
            <a:off x="3048120" y="1905120"/>
            <a:ext cx="685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Q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1495440" cy="6541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8"/>
          <p:cNvSpPr/>
          <p:nvPr/>
        </p:nvSpPr>
        <p:spPr>
          <a:xfrm>
            <a:off x="6324480" y="11430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3124080" y="190512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99FE-03AC-4B56-A25F-AC754FA074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980720" y="2895120"/>
            <a:ext cx="6248520" cy="259092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gain, the 3270 icon appears, which was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fault screen when you first logged o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C Web CICS with your assig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ser Name and Pass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lick on the icon to access M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 VTAM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2514600" y="20574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FIS Logo without Verbiage"/>
          <p:cNvPicPr/>
          <p:nvPr/>
        </p:nvPicPr>
        <p:blipFill>
          <a:blip r:embed="rId2"/>
          <a:stretch/>
        </p:blipFill>
        <p:spPr>
          <a:xfrm>
            <a:off x="8381880" y="6172200"/>
            <a:ext cx="533520" cy="204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6"/>
          <p:cNvSpPr/>
          <p:nvPr/>
        </p:nvSpPr>
        <p:spPr>
          <a:xfrm>
            <a:off x="6324480" y="11430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3"/>
          <a:stretch/>
        </p:blipFill>
        <p:spPr>
          <a:xfrm>
            <a:off x="7543800" y="5867280"/>
            <a:ext cx="1495440" cy="65412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5D9F-1359-4BD0-9879-A4FBA3820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781680" cy="2666880"/>
          </a:xfrm>
          <a:prstGeom prst="rect">
            <a:avLst/>
          </a:prstGeom>
          <a:solidFill>
            <a:srgbClr val="d5e1ef"/>
          </a:solidFill>
          <a:ln w="57240">
            <a:solidFill>
              <a:srgbClr val="0066ff"/>
            </a:solidFill>
            <a:miter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rom the VTAM screen, the user can access the Controls &amp; Audit facility (AICM) to locate the status of file transfers, or access one or more MSP cli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gions to view or update loan data (AIC_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ccess to MSP cli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gions is secure, requiring authorization from the lender and a region code as furnished by LPS or by the lender directl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ssuming the len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 region is defined 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we will input the identifi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IC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, then p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4"/>
          <p:cNvSpPr/>
          <p:nvPr/>
        </p:nvSpPr>
        <p:spPr>
          <a:xfrm>
            <a:off x="2590920" y="5410080"/>
            <a:ext cx="976320" cy="561960"/>
          </a:xfrm>
          <a:prstGeom prst="leftArrow">
            <a:avLst>
              <a:gd name="adj1" fmla="val 50000"/>
              <a:gd name="adj2" fmla="val 4343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76A-C3B4-42F2-8E9E-706037885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8" name="AutoShape 3"/>
          <p:cNvSpPr/>
          <p:nvPr/>
        </p:nvSpPr>
        <p:spPr>
          <a:xfrm>
            <a:off x="411480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2209680" y="2666880"/>
            <a:ext cx="45720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409720" y="1828440"/>
            <a:ext cx="3429000" cy="3886200"/>
          </a:xfrm>
          <a:prstGeom prst="rect">
            <a:avLst/>
          </a:prstGeom>
          <a:solidFill>
            <a:srgbClr val="d5e1ef"/>
          </a:solidFill>
          <a:ln w="5724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ow that you are in the region of your MSP client, you can enter the lender-assigned MSP user  ID and pass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e lender can restrict third party access right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nl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r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ter user ID and password then p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FBD6-4ABF-44CE-A8C3-DF3E1DFA69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-295200" y="-66600"/>
            <a:ext cx="9734400" cy="69912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0" y="304920"/>
            <a:ext cx="3429000" cy="609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8167680" y="3049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1295280" y="1295280"/>
            <a:ext cx="6705720" cy="3505320"/>
          </a:xfrm>
          <a:prstGeom prst="rect">
            <a:avLst/>
          </a:prstGeom>
          <a:solidFill>
            <a:srgbClr val="d5e1e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pon entering the user ID and password, the user will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otified that the signon is complet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rom this screen, the user will enter a partic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ransaction type and loan number to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oan data that resides in MS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r purposes of this demo, we will enter the code for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oan 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creen (i.e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190), followed by a loan number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95159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) and p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n the keybo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6248520" y="304920"/>
            <a:ext cx="1752480" cy="609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4"/>
          <p:cNvSpPr/>
          <p:nvPr/>
        </p:nvSpPr>
        <p:spPr>
          <a:xfrm>
            <a:off x="8839080" y="667548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9825-FE8B-46E4-A0FC-4F95ECAAF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4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4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-299880" y="-76320"/>
            <a:ext cx="9743760" cy="701064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0" y="228600"/>
            <a:ext cx="2362320" cy="5335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2286000" y="1066680"/>
            <a:ext cx="5943600" cy="3962520"/>
          </a:xfrm>
          <a:prstGeom prst="rect">
            <a:avLst/>
          </a:prstGeom>
          <a:solidFill>
            <a:srgbClr val="d5e1e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nce authorization is granted to view or update dat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e lender will orient the user to all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SP screens and transaction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at will be needed by the user to service the lo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e P19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oan 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screen for lo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# 9515925 is reflected he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rom this screen, the user can navigate to an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ther screen by entering a new transaction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nd loan number at the bottom of the scre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5257800"/>
            <a:ext cx="4648320" cy="609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4"/>
          <p:cNvSpPr/>
          <p:nvPr/>
        </p:nvSpPr>
        <p:spPr>
          <a:xfrm>
            <a:off x="8534520" y="667548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2FA7-FD7D-4050-9E7E-5E4B1E27B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4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-299880" y="-61920"/>
            <a:ext cx="9743760" cy="698184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3"/>
          <p:cNvSpPr/>
          <p:nvPr/>
        </p:nvSpPr>
        <p:spPr>
          <a:xfrm>
            <a:off x="1905120" y="3276720"/>
            <a:ext cx="5562360" cy="1143000"/>
          </a:xfrm>
          <a:prstGeom prst="rect">
            <a:avLst/>
          </a:prstGeom>
          <a:solidFill>
            <a:srgbClr val="d5e1e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We have now reviewed all of the steps necessary to access MSP utilizing IC Web CICS.  To exit MSP, type CSSF besi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xt Transa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, and sele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en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on the keyboard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962520" y="5410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CS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5257800"/>
            <a:ext cx="4876920" cy="609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4"/>
          <p:cNvSpPr/>
          <p:nvPr/>
        </p:nvSpPr>
        <p:spPr>
          <a:xfrm>
            <a:off x="8381880" y="667548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D33E-713C-4159-8D0F-5937428860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38080" y="2057040"/>
            <a:ext cx="7513920" cy="335268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ank you for taking the time to view our demonst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C Web CICS is an easy and secure way to gain access to MS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iew and update loan data on behalf of mortgage lend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t is also useful for accessing InterChange Controls &amp; Audi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racking file transfers to and from MSP if this functionality is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urostil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70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5CA1-5CC3-4E80-BD9A-338783868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7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55371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676160" y="2361960"/>
            <a:ext cx="7086600" cy="335268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r more information about LPS InterChang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C Web CICS, contact a sales representativ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 listed on this LPS InterChange website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 Unicode MS"/>
                <a:hlinkClick r:id="rId2"/>
              </a:rPr>
              <a:t>http://interchange.lendingsvcs.com/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ales Conta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nd give us a c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609480" y="46483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2A36-F100-4C7A-A6AF-541669D9E4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urostile"/>
              </a:rPr>
              <a:t>Welcome to the IC Web CICS Demo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6" name="Footer Placeholder 2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7B65-EF03-4BC3-AE70-943384F056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533520" y="1828800"/>
            <a:ext cx="8153280" cy="4093200"/>
          </a:xfrm>
          <a:prstGeom prst="rect">
            <a:avLst/>
          </a:prstGeom>
          <a:solidFill>
            <a:srgbClr val="d5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about to view a self-guided demonstra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 Web CICS, a browser-based application providing online 3270 mainframe access to LPS’ Mortgage Servicing Package (MSP).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back and let us show you how easy it is to ga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access to the LPS hos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demo will run approximately 5 minutes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urostile"/>
              </a:rPr>
              <a:t>What is LPS InterChange?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0" name="Footer Placeholder 2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028-EF35-4902-971E-5CA149DE0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914400" y="2286000"/>
            <a:ext cx="6781680" cy="2852280"/>
          </a:xfrm>
          <a:prstGeom prst="rect">
            <a:avLst/>
          </a:prstGeom>
          <a:solidFill>
            <a:srgbClr val="d5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st value-added network dedic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mortgage indust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3270 CICS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le transfer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urostile"/>
              </a:rPr>
              <a:t>What is IC Web CICS?</a:t>
            </a:r>
            <a:endParaRPr b="0" lang="en-US" sz="4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4" name="Footer Placeholder 2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Lender Processing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0D93-566A-4DE1-A7CF-0E3239E363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838080" y="1828800"/>
            <a:ext cx="7620120" cy="3690720"/>
          </a:xfrm>
          <a:prstGeom prst="rect">
            <a:avLst/>
          </a:prstGeom>
          <a:solidFill>
            <a:srgbClr val="d5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44d"/>
                </a:solidFill>
                <a:latin typeface="Arial"/>
              </a:rPr>
              <a:t>LPS InterChange Internet connectivity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44d"/>
                </a:solidFill>
                <a:latin typeface="Arial"/>
              </a:rPr>
              <a:t>Means of accessing MSP to view and update loan records on behalf of mutual lending cli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4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44d"/>
                </a:solidFill>
                <a:latin typeface="Arial"/>
              </a:rPr>
              <a:t>Can also be used to access Controls &amp; Audit for tracking file transfers to and from M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55371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133720" y="2819160"/>
            <a:ext cx="5148000" cy="327636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s demo was launche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Unicode MS"/>
                <a:hlinkClick r:id="rId2"/>
              </a:rPr>
              <a:t>http://interchange.lendingsvcs.com/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, home to general information about LPS InterChang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lso available from this webs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LPS InterChange Over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nterChange Service Provider Li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Business Partners Service Advisory Committ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ales and Support Cont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Link to the IC Web CIC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152280" y="2819520"/>
            <a:ext cx="1447920" cy="32004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B2C0-FF58-4834-897A-75393B070E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48800" cy="54482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057400" y="2286000"/>
            <a:ext cx="6354720" cy="403848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C Web CICS is browser-based and secured                          with a digital certific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party emulation software is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equi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o launch IC Web CICS, the user must ha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C, Internet Explorer (IE) 6.0 Service Pack 1 (SP1) with 128 bit SSL and a current Internet Service Provider (IS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y clicking on the </a:t>
            </a: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IC Web CICS User Interface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from the InterChange website, the user is taken to the logon scre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152280" y="5334120"/>
            <a:ext cx="1371600" cy="380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FEE5-78ED-43E4-A5FB-187AF70892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447560" y="1752120"/>
            <a:ext cx="6218280" cy="388620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ogging on grants you sec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ccess to the MSP h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uccessful signon requires a User N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nd Password, which are assigned by LP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e first time you log on, you will be promp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o change your Passwor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You will then enter your User nam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assword and sele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2457360" cy="2182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Launching IC Web CICS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6934320" y="6019920"/>
            <a:ext cx="685800" cy="355320"/>
          </a:xfrm>
          <a:prstGeom prst="rightArrow">
            <a:avLst>
              <a:gd name="adj1" fmla="val 50000"/>
              <a:gd name="adj2" fmla="val 482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6477120" y="5181480"/>
            <a:ext cx="2438280" cy="4572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B7DB-1AF7-4760-AF02-A74B5A108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IC Web CICS Infrastructur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1143000" y="2424960"/>
            <a:ext cx="6172200" cy="2150640"/>
          </a:xfrm>
          <a:prstGeom prst="rect">
            <a:avLst/>
          </a:prstGeom>
          <a:solidFill>
            <a:srgbClr val="d5e1e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Behind the scen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IC Web CICS utilizes the sec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OpenConnect (OC://WebConnect) infra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in a client-server 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as the framework for this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0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457360" cy="218304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17AF-AA33-4479-A9C7-7A63DC0487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3"/>
          <p:cNvSpPr/>
          <p:nvPr/>
        </p:nvSpPr>
        <p:spPr>
          <a:xfrm>
            <a:off x="609480" y="2057400"/>
            <a:ext cx="609840" cy="333360"/>
          </a:xfrm>
          <a:prstGeom prst="leftArrow">
            <a:avLst>
              <a:gd name="adj1" fmla="val 50000"/>
              <a:gd name="adj2" fmla="val 4573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blankheader"/>
          <p:cNvPicPr/>
          <p:nvPr/>
        </p:nvPicPr>
        <p:blipFill>
          <a:blip r:embed="rId2"/>
          <a:stretch/>
        </p:blipFill>
        <p:spPr>
          <a:xfrm>
            <a:off x="1523880" y="2895480"/>
            <a:ext cx="7315200" cy="17798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5"/>
          <p:cNvSpPr/>
          <p:nvPr/>
        </p:nvSpPr>
        <p:spPr>
          <a:xfrm>
            <a:off x="1447920" y="3048120"/>
            <a:ext cx="487656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have the option of changing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C Web CICS password at any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clicking on the ‘Identity’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the left side of your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6324480" y="1143000"/>
            <a:ext cx="838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381880" y="649296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39FE-E65F-4B65-B3ED-2FB718823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3:14:47Z</dcterms:created>
  <dc:creator>Gremer, Christina</dc:creator>
  <dc:description/>
  <dc:language>en-US</dc:language>
  <cp:lastModifiedBy>O. Max Gardner III</cp:lastModifiedBy>
  <dcterms:modified xsi:type="dcterms:W3CDTF">2010-07-11T22:56:03Z</dcterms:modified>
  <cp:revision>49</cp:revision>
  <dc:subject/>
  <dc:title>Slide 1</dc:title>
</cp:coreProperties>
</file>